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2F0-0201-49CB-9F4E-B1F52262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DAF-3710-4EEA-B49D-AE90A73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AAF-176A-49D4-8846-ADE58C4C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7FD-7273-4A1A-B4AC-78A5EB34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B2E-F65A-48B7-BBFA-2E9B414B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A28-32E2-46CF-8821-45496250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9A3-22FC-475E-918E-2895E6D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43A-DF20-4723-B90F-6889AE87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B38-7D66-41B3-8881-83179AB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A98-B4F2-40CE-9939-B77E23B8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686-838E-424A-94F3-79C3E16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72B-FD56-4EEA-B65B-A0DF59A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B184-C25B-46B9-BA6F-FA1830A3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-1 developments:  24-31 Ja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523880"/>
            <a:ext cx="8686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ly succesful attempt to observe Jupiter (Friday 26Jan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ng  obs/theory/sim study of rain effects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mvCappellen/Michel Arts, Menno Norden, Pandey/deBruyn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ful observing in a (rainy) weeke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24h on CasA and CygA with ‘standard’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&gt; 16 subbands in 8 MS,  all look g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h without fringe tracking --&gt; clock drift study  ANT 1 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s for HBA antennas at CS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BA  S/N estimates and  A/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47920"/>
            <a:ext cx="815364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from 27/28 Jan  2007: 24h on CasA -   L1065 (see wiki observations cat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band frequencies at- 33,38,44,52,57,60,65,74 MHz (standaard se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lus 48,49,50,51,52,53,54,55 (special rain se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bserved S/N ~ 4 per sample at 60 MHz (see fig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a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20,000 Jy 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/ 60MHz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0.77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ood to 10%?) , the noise is   ~ 5000 J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mal noise =   SEFD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B=0.62 Khz, t=60s  we  then derive a   SEFD  ~190 x 5000Jy ~ 1,000,000 J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corresponds to, for example,  A/T =   8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3000 K for one dipole at 60 MHz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:  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760 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-&gt; 1Jy/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A test plans  Feb-Jun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14400"/>
            <a:ext cx="8382240" cy="57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 WHAT platform near WS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Feb/Mar    tile tests (new summator+powersuppli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pr           1 ‘autonational styrofoam’ tile on WHAT platfor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xloo (CS-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Feb/Mar   16 close-packed (4x4 tile) dipoles + free 16 dipo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/Apr     4x4 tile + 4 dipoles in CS010,   and 4 dipoles each at CS001,CS008, CS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             6 new styrofoam tiles in Exl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/experi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beam, coupling effects as a function of frequency (simulation man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optimal element-spacing in tile and decide on station configu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optimal station calibration strate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performance:  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stronom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calibration pipelines at 120-240 MH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large scale ionospheric effects, settle flux sca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RFI (linearity) / polar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certain rain effects (hopefully non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T/WHAT platform:   HBA2 + new summator,  X pol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vdMarel, 31-jan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952640"/>
            <a:ext cx="77155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RT/WHAT platform: HBA2 + new summator,  X pol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vdMarel, 31-jan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1955880"/>
            <a:ext cx="7723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on baseline ANT1-ANT9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-Jan-07  UT16h -  29-Jan-07  UT07  (L10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8001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day rain effects at 60 MHz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1061, autocorrelations, ANT 10 and 13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2560" y="1600200"/>
            <a:ext cx="7819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day rain effects at 60 MHz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1065, Autocorrelations ANT 10 and 13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5400000">
            <a:off x="2128320" y="604800"/>
            <a:ext cx="511488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day rain effects at 60  MHz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1065, Autocorrelations ANT 10 and 13 , X &amp; Y pol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9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day rain effects at 33 MHz and 38  MHz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1065, Autocorrelations ANT 10 and 13 , X &amp; Y pol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8640" y="1676520"/>
            <a:ext cx="76118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(redundant) IFR1-15 &amp; IFR12-16,   60MHz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inges CasA stopped, CygA causes oscill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701720"/>
            <a:ext cx="77644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(redundant) baselines  ANT11-15, ANT12-1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nges CasA stopped, CygA causes oscill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595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ANT6-10-14          L1065 - 28Jan07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Closure Phase:  (6-10)+(10-14)-(6-14)  ~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4640" y="1216080"/>
            <a:ext cx="83584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9:49:51Z</dcterms:created>
  <dc:creator>Ger de Bruyn</dc:creator>
  <dc:description/>
  <dc:language>en-US</dc:language>
  <cp:lastModifiedBy>Ger de Bruyn</cp:lastModifiedBy>
  <cp:lastPrinted>2006-12-17T19:40:19Z</cp:lastPrinted>
  <dcterms:modified xsi:type="dcterms:W3CDTF">2007-01-31T14:53:00Z</dcterms:modified>
  <cp:revision>55</cp:revision>
  <dc:subject/>
  <dc:title>PowerPoint Presentation</dc:title>
</cp:coreProperties>
</file>